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7CC-725F-4255-8507-4719FA4A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7D4-C322-4ADC-A04A-36C7C005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729-3160-44AF-AACB-CC7C4F11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F67-5D29-43A6-A082-950E6820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B90-9E40-41AB-9342-7C5CB607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47C-35A8-403C-BA6C-7AD52B0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47B-7688-4FCC-B59B-D879F2C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E74-9D6F-45E9-9A8F-998A4EA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FF1-92D5-44EB-82BF-9198296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F79-6014-4B8D-AC93-91715A2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A36-260A-4E84-AFB5-D812696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E2D-DD02-4E2E-837D-44509D7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AF58-513E-4EB4-8FE6-2F10168B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 &amp; Eu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&amp;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NA poly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 (only one type in pro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mo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 (none in pro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transcriptional modifications in eukaryotes (none in pro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&amp; translation can happ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es (not in eu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7:47Z</dcterms:created>
  <dc:creator>rubina khan</dc:creator>
  <dc:description/>
  <dc:language>en-US</dc:language>
  <cp:lastModifiedBy>rubina khan</cp:lastModifiedBy>
  <dcterms:modified xsi:type="dcterms:W3CDTF">2012-04-25T16:46:25Z</dcterms:modified>
  <cp:revision>5</cp:revision>
  <dc:subject/>
  <dc:title>Prokaryotes &amp; Eukaryotes</dc:title>
</cp:coreProperties>
</file>